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8F79-3971-4715-908F-B153AB34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6E46-9982-488C-B26A-22122FD4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763-98BC-4477-95A3-2C769EB3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DF0-C320-4E81-86EA-75B911D0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48CF-E1B4-4F76-8978-6826CEA0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07AA-4C2C-415A-ACA2-86D9F984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19B-0807-437A-865B-B62A50F9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240-0FAE-476B-B9AD-A9320B49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B7F9-B8F3-422C-A679-0B8D3D05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42D9-0D67-473A-BB3F-4F739285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A86-A765-4ED3-A50C-BA9FA83A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8A45-CA4A-43AB-9C35-6F4C56A1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5815-6AB6-4631-B06D-3F799ACDD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ommunitycollege.net/jobs/hotjobs.html" TargetMode="External"/><Relationship Id="rId2" Type="http://schemas.openxmlformats.org/officeDocument/2006/relationships/hyperlink" Target="http://www.communitycollege.net/jobs/hotjobs.html" TargetMode="External"/><Relationship Id="rId3" Type="http://schemas.openxmlformats.org/officeDocument/2006/relationships/hyperlink" Target="http://mapping-your-future.org/features/careership/match_career.cfm" TargetMode="External"/><Relationship Id="rId4" Type="http://schemas.openxmlformats.org/officeDocument/2006/relationships/hyperlink" Target="http://swz.salary.com/csalarywizard/layoutscripts/cswzl_newsearch.asp" TargetMode="External"/><Relationship Id="rId5" Type="http://schemas.openxmlformats.org/officeDocument/2006/relationships/hyperlink" Target="http://www23.hrdc-drhc.gc.ca/2001/e/generic/nocsearch.asp" TargetMode="External"/><Relationship Id="rId6" Type="http://schemas.openxmlformats.org/officeDocument/2006/relationships/hyperlink" Target="http://www.unitedstreaming.com/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The After School Spe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omic Sans MS"/>
              </a:rPr>
              <a:t>168 Hours in a week…so much to d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480996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2 – 168 hou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In this section, you will estimate how much time you might spend on extracurricular activities each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2 – 168 hou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Examine the file “So Much to Do…”.  It is located in the </a:t>
            </a:r>
            <a:r>
              <a:rPr b="0" i="1" lang="en-US" sz="3200" spc="-1" strike="noStrike">
                <a:solidFill>
                  <a:srgbClr val="990000"/>
                </a:solidFill>
                <a:latin typeface="Comic Sans MS"/>
              </a:rPr>
              <a:t>Management</a:t>
            </a: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 fol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Choose any activity that you feel you might take part in, and estimate the number of hours you will spend at it each week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2 – 168 hou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List your answers on the WORKSHEET </a:t>
            </a:r>
            <a:r>
              <a:rPr b="0" i="1" lang="en-US" sz="3200" spc="-1" strike="noStrike">
                <a:solidFill>
                  <a:srgbClr val="990000"/>
                </a:solidFill>
                <a:latin typeface="Comic Sans MS"/>
              </a:rPr>
              <a:t>So much to do…</a:t>
            </a: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, and calculate the total number of hours.  Save your work with your name attached and keep it in your e-fol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2 – 168 hou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Workouts / Basketball: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Entertainment (TV): 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4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Family and Friends: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Music: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3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23 hours 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With this project, you will be looking at your life in the future.  You will estimate your monthly income, and how it could be sp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7640" y="981000"/>
            <a:ext cx="67820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58560" y="2104560"/>
            <a:ext cx="770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You will answer the following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What do I want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Where do I want to l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How much money will I m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How much money will I REALLY m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What will I do with this mon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This project will be presented in a PowerPoint, and MUST be in the proper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THE PowerPoint and worksheets must be saved in an e-fol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For all parts, I suggest doing a rough copy in pencil before adding it to the presentation…your answers WILL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1 – The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Your first order of business is to find a job, and research the following important aspec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1 – The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Job title, description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Hours worked per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Education and experienc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Gross Monthly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Transferabl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Amount of holidays per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Why this is the perfect job for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26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1 – The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omic Sans MS"/>
              </a:rPr>
              <a:t>While researching these aspect of your career, you may want to try these sit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Matches your personality to your possible care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communitycollege.net/jobs/hotjob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This one will help choose a possible care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pping-your-future.org/features/careership/match_career.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This one will indicate what your salary might 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wz.salary.com/csalarywizard/layoutscripts/cswzl_newsearch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This one will outline job descriptions and responsib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23.hrdc-drhc.gc.ca/2001/e/generic/nocsearch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Videos for your potential car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unitedstream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1 – The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Feel free to aim high…you are all smart enough to do well, but be realis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If you were headed to the NHL, you’d already be on your wa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Unless you are told specifically, there is an $8000/month ceiling on your earn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1 – The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PLEASE create an e-folder entitled After School Special</a:t>
            </a:r>
            <a:r>
              <a:rPr b="0" i="1" lang="en-US" sz="3200" spc="-1" strike="noStrike">
                <a:solidFill>
                  <a:srgbClr val="990000"/>
                </a:solidFill>
                <a:latin typeface="Comic Sans MS"/>
              </a:rPr>
              <a:t>.  </a:t>
            </a: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You will use this to store researched info and e-work she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Please record all of this information into the first section of your presentation, under the title “My Career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00:30:26Z</dcterms:created>
  <dc:creator>nbdoe</dc:creator>
  <dc:description/>
  <dc:language>en-US</dc:language>
  <cp:lastModifiedBy>nbdoe</cp:lastModifiedBy>
  <dcterms:modified xsi:type="dcterms:W3CDTF">2007-05-07T14:36:38Z</dcterms:modified>
  <cp:revision>2</cp:revision>
  <dc:subject/>
  <dc:title>The After School Special</dc:title>
</cp:coreProperties>
</file>